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D509B-0E07-4FF4-ABAF-7F9C33277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0476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94D4F-FF5D-4D65-AEFB-30E354FEF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E7D3E-F854-44DF-84E9-F8D223250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A69F6-40A1-4520-B55D-0CC9AB7F3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082FD1-88F9-42D0-8F59-55BA09083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85800" y="1904760"/>
            <a:ext cx="777240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BA64C-D82F-42DC-BCA7-E0AE87BD4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4FDFC-BADB-4C52-B9F5-46427F712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FD1C5-B8A8-4CC1-B930-101A6ABF9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7BBC8-445D-44BB-9E5C-D7F0A595C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BBF3C-8D00-4809-BD0A-1BEEEAB20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F83F7-7940-42C7-8093-E7FD8E227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04760"/>
            <a:ext cx="7772400" cy="380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BC534-DB6B-43A0-B149-B7D82B107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5090E-C5C7-4C10-B16E-FD41C6B91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8F004-301E-4CA3-8065-63197A075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0476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092E7-D55D-43FA-90BB-75A343C5F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3582D-E758-44DF-9D69-5F091FFA51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31380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941440" y="190476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685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31380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941440" y="3895200"/>
            <a:ext cx="25023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B416D-E994-41DE-80D8-522F7F113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B7EEF-CD49-4635-BD45-208EC8707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07A9C-E6E2-49A8-BC7A-783417F1C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AEF87-D00C-4F1A-8AF0-4AA73E878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F5FD8-81AE-495D-A4B2-485EC4937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718DC-4A74-48F3-AB46-583691A85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04760"/>
            <a:ext cx="379260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89520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E7AE6-40D2-4CDB-B727-EC1534913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04760"/>
            <a:ext cx="37926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895200"/>
            <a:ext cx="777240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297EF-9475-4CC5-97FA-BC2D831E1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54000" y="34920"/>
            <a:ext cx="9037440" cy="6773760"/>
          </a:xfrm>
          <a:custGeom>
            <a:avLst/>
            <a:gdLst/>
            <a:ahLst/>
            <a:rect l="l" t="t" r="r" b="b"/>
            <a:pathLst>
              <a:path w="5693" h="4267">
                <a:moveTo>
                  <a:pt x="2297" y="55"/>
                </a:moveTo>
                <a:cubicBezTo>
                  <a:pt x="2351" y="47"/>
                  <a:pt x="2421" y="72"/>
                  <a:pt x="2505" y="116"/>
                </a:cubicBezTo>
                <a:cubicBezTo>
                  <a:pt x="2588" y="159"/>
                  <a:pt x="2709" y="313"/>
                  <a:pt x="2798" y="314"/>
                </a:cubicBezTo>
                <a:cubicBezTo>
                  <a:pt x="2886" y="314"/>
                  <a:pt x="2974" y="153"/>
                  <a:pt x="3038" y="122"/>
                </a:cubicBezTo>
                <a:cubicBezTo>
                  <a:pt x="3101" y="90"/>
                  <a:pt x="3150" y="106"/>
                  <a:pt x="3182" y="122"/>
                </a:cubicBezTo>
                <a:cubicBezTo>
                  <a:pt x="3214" y="138"/>
                  <a:pt x="3222" y="178"/>
                  <a:pt x="3230" y="218"/>
                </a:cubicBezTo>
                <a:cubicBezTo>
                  <a:pt x="3237" y="257"/>
                  <a:pt x="3214" y="330"/>
                  <a:pt x="3230" y="362"/>
                </a:cubicBezTo>
                <a:cubicBezTo>
                  <a:pt x="3246" y="394"/>
                  <a:pt x="3294" y="410"/>
                  <a:pt x="3326" y="410"/>
                </a:cubicBezTo>
                <a:cubicBezTo>
                  <a:pt x="3358" y="410"/>
                  <a:pt x="3390" y="402"/>
                  <a:pt x="3422" y="362"/>
                </a:cubicBezTo>
                <a:cubicBezTo>
                  <a:pt x="3454" y="322"/>
                  <a:pt x="3478" y="225"/>
                  <a:pt x="3518" y="170"/>
                </a:cubicBezTo>
                <a:cubicBezTo>
                  <a:pt x="3557" y="114"/>
                  <a:pt x="3593" y="51"/>
                  <a:pt x="3662" y="26"/>
                </a:cubicBezTo>
                <a:cubicBezTo>
                  <a:pt x="3730" y="0"/>
                  <a:pt x="3859" y="2"/>
                  <a:pt x="3928" y="16"/>
                </a:cubicBezTo>
                <a:cubicBezTo>
                  <a:pt x="3996" y="29"/>
                  <a:pt x="4038" y="51"/>
                  <a:pt x="4074" y="109"/>
                </a:cubicBezTo>
                <a:cubicBezTo>
                  <a:pt x="4109" y="166"/>
                  <a:pt x="4102" y="301"/>
                  <a:pt x="4142" y="362"/>
                </a:cubicBezTo>
                <a:cubicBezTo>
                  <a:pt x="4181" y="422"/>
                  <a:pt x="4245" y="454"/>
                  <a:pt x="4312" y="470"/>
                </a:cubicBezTo>
                <a:cubicBezTo>
                  <a:pt x="4378" y="485"/>
                  <a:pt x="4483" y="480"/>
                  <a:pt x="4543" y="455"/>
                </a:cubicBezTo>
                <a:cubicBezTo>
                  <a:pt x="4602" y="429"/>
                  <a:pt x="4624" y="369"/>
                  <a:pt x="4670" y="314"/>
                </a:cubicBezTo>
                <a:cubicBezTo>
                  <a:pt x="4715" y="258"/>
                  <a:pt x="4749" y="170"/>
                  <a:pt x="4814" y="122"/>
                </a:cubicBezTo>
                <a:cubicBezTo>
                  <a:pt x="4878" y="73"/>
                  <a:pt x="4966" y="42"/>
                  <a:pt x="5054" y="26"/>
                </a:cubicBezTo>
                <a:cubicBezTo>
                  <a:pt x="5142" y="10"/>
                  <a:pt x="5254" y="2"/>
                  <a:pt x="5342" y="26"/>
                </a:cubicBezTo>
                <a:cubicBezTo>
                  <a:pt x="5430" y="50"/>
                  <a:pt x="5526" y="106"/>
                  <a:pt x="5582" y="170"/>
                </a:cubicBezTo>
                <a:cubicBezTo>
                  <a:pt x="5638" y="234"/>
                  <a:pt x="5662" y="346"/>
                  <a:pt x="5678" y="410"/>
                </a:cubicBezTo>
                <a:cubicBezTo>
                  <a:pt x="5693" y="473"/>
                  <a:pt x="5687" y="497"/>
                  <a:pt x="5678" y="554"/>
                </a:cubicBezTo>
                <a:cubicBezTo>
                  <a:pt x="5668" y="610"/>
                  <a:pt x="5644" y="691"/>
                  <a:pt x="5620" y="747"/>
                </a:cubicBezTo>
                <a:cubicBezTo>
                  <a:pt x="5596" y="803"/>
                  <a:pt x="5563" y="838"/>
                  <a:pt x="5534" y="890"/>
                </a:cubicBezTo>
                <a:cubicBezTo>
                  <a:pt x="5504" y="941"/>
                  <a:pt x="5472" y="987"/>
                  <a:pt x="5443" y="1055"/>
                </a:cubicBezTo>
                <a:cubicBezTo>
                  <a:pt x="5413" y="1122"/>
                  <a:pt x="5383" y="1226"/>
                  <a:pt x="5359" y="1293"/>
                </a:cubicBezTo>
                <a:cubicBezTo>
                  <a:pt x="5334" y="1359"/>
                  <a:pt x="5300" y="1403"/>
                  <a:pt x="5297" y="1455"/>
                </a:cubicBezTo>
                <a:cubicBezTo>
                  <a:pt x="5293" y="1506"/>
                  <a:pt x="5320" y="1559"/>
                  <a:pt x="5336" y="1601"/>
                </a:cubicBezTo>
                <a:cubicBezTo>
                  <a:pt x="5351" y="1642"/>
                  <a:pt x="5348" y="1656"/>
                  <a:pt x="5390" y="1706"/>
                </a:cubicBezTo>
                <a:cubicBezTo>
                  <a:pt x="5431" y="1755"/>
                  <a:pt x="5542" y="1842"/>
                  <a:pt x="5582" y="1898"/>
                </a:cubicBezTo>
                <a:cubicBezTo>
                  <a:pt x="5621" y="1953"/>
                  <a:pt x="5630" y="1978"/>
                  <a:pt x="5630" y="2042"/>
                </a:cubicBezTo>
                <a:cubicBezTo>
                  <a:pt x="5630" y="2106"/>
                  <a:pt x="5621" y="2218"/>
                  <a:pt x="5582" y="2282"/>
                </a:cubicBezTo>
                <a:cubicBezTo>
                  <a:pt x="5542" y="2345"/>
                  <a:pt x="5453" y="2394"/>
                  <a:pt x="5390" y="2426"/>
                </a:cubicBezTo>
                <a:cubicBezTo>
                  <a:pt x="5326" y="2457"/>
                  <a:pt x="5237" y="2450"/>
                  <a:pt x="5198" y="2474"/>
                </a:cubicBezTo>
                <a:cubicBezTo>
                  <a:pt x="5158" y="2497"/>
                  <a:pt x="5134" y="2538"/>
                  <a:pt x="5150" y="2570"/>
                </a:cubicBezTo>
                <a:cubicBezTo>
                  <a:pt x="5166" y="2602"/>
                  <a:pt x="5246" y="2626"/>
                  <a:pt x="5294" y="2666"/>
                </a:cubicBezTo>
                <a:cubicBezTo>
                  <a:pt x="5342" y="2706"/>
                  <a:pt x="5422" y="2762"/>
                  <a:pt x="5438" y="2810"/>
                </a:cubicBezTo>
                <a:cubicBezTo>
                  <a:pt x="5453" y="2857"/>
                  <a:pt x="5406" y="2922"/>
                  <a:pt x="5390" y="2954"/>
                </a:cubicBezTo>
                <a:cubicBezTo>
                  <a:pt x="5374" y="2986"/>
                  <a:pt x="5349" y="2978"/>
                  <a:pt x="5342" y="3002"/>
                </a:cubicBezTo>
                <a:cubicBezTo>
                  <a:pt x="5334" y="3025"/>
                  <a:pt x="5326" y="3058"/>
                  <a:pt x="5342" y="3098"/>
                </a:cubicBezTo>
                <a:cubicBezTo>
                  <a:pt x="5358" y="3138"/>
                  <a:pt x="5398" y="3186"/>
                  <a:pt x="5438" y="3242"/>
                </a:cubicBezTo>
                <a:cubicBezTo>
                  <a:pt x="5477" y="3297"/>
                  <a:pt x="5542" y="3370"/>
                  <a:pt x="5582" y="3434"/>
                </a:cubicBezTo>
                <a:cubicBezTo>
                  <a:pt x="5621" y="3497"/>
                  <a:pt x="5670" y="3546"/>
                  <a:pt x="5678" y="3626"/>
                </a:cubicBezTo>
                <a:cubicBezTo>
                  <a:pt x="5686" y="3706"/>
                  <a:pt x="5670" y="3834"/>
                  <a:pt x="5630" y="3914"/>
                </a:cubicBezTo>
                <a:cubicBezTo>
                  <a:pt x="5590" y="3994"/>
                  <a:pt x="5502" y="4057"/>
                  <a:pt x="5438" y="4106"/>
                </a:cubicBezTo>
                <a:cubicBezTo>
                  <a:pt x="5373" y="4154"/>
                  <a:pt x="5317" y="4178"/>
                  <a:pt x="5246" y="4202"/>
                </a:cubicBezTo>
                <a:cubicBezTo>
                  <a:pt x="5174" y="4225"/>
                  <a:pt x="5086" y="4242"/>
                  <a:pt x="5006" y="4250"/>
                </a:cubicBezTo>
                <a:cubicBezTo>
                  <a:pt x="4926" y="4258"/>
                  <a:pt x="4860" y="4256"/>
                  <a:pt x="4766" y="4250"/>
                </a:cubicBezTo>
                <a:cubicBezTo>
                  <a:pt x="4671" y="4243"/>
                  <a:pt x="4528" y="4230"/>
                  <a:pt x="4436" y="4209"/>
                </a:cubicBezTo>
                <a:cubicBezTo>
                  <a:pt x="4343" y="4188"/>
                  <a:pt x="4270" y="4170"/>
                  <a:pt x="4212" y="4124"/>
                </a:cubicBezTo>
                <a:cubicBezTo>
                  <a:pt x="4153" y="4077"/>
                  <a:pt x="4121" y="4003"/>
                  <a:pt x="4082" y="3932"/>
                </a:cubicBezTo>
                <a:cubicBezTo>
                  <a:pt x="4042" y="3860"/>
                  <a:pt x="4015" y="3700"/>
                  <a:pt x="3974" y="3693"/>
                </a:cubicBezTo>
                <a:cubicBezTo>
                  <a:pt x="3932" y="3685"/>
                  <a:pt x="3896" y="3827"/>
                  <a:pt x="3835" y="3886"/>
                </a:cubicBezTo>
                <a:cubicBezTo>
                  <a:pt x="3773" y="3944"/>
                  <a:pt x="3689" y="3995"/>
                  <a:pt x="3605" y="4047"/>
                </a:cubicBezTo>
                <a:cubicBezTo>
                  <a:pt x="3520" y="4098"/>
                  <a:pt x="3406" y="4167"/>
                  <a:pt x="3328" y="4193"/>
                </a:cubicBezTo>
                <a:cubicBezTo>
                  <a:pt x="3249" y="4218"/>
                  <a:pt x="3206" y="4216"/>
                  <a:pt x="3134" y="4202"/>
                </a:cubicBezTo>
                <a:cubicBezTo>
                  <a:pt x="3061" y="4187"/>
                  <a:pt x="2966" y="4138"/>
                  <a:pt x="2894" y="4106"/>
                </a:cubicBezTo>
                <a:cubicBezTo>
                  <a:pt x="2821" y="4073"/>
                  <a:pt x="2757" y="4029"/>
                  <a:pt x="2702" y="4010"/>
                </a:cubicBezTo>
                <a:cubicBezTo>
                  <a:pt x="2646" y="3990"/>
                  <a:pt x="2610" y="3973"/>
                  <a:pt x="2558" y="3986"/>
                </a:cubicBezTo>
                <a:cubicBezTo>
                  <a:pt x="2505" y="3998"/>
                  <a:pt x="2463" y="4066"/>
                  <a:pt x="2389" y="4086"/>
                </a:cubicBezTo>
                <a:cubicBezTo>
                  <a:pt x="2314" y="4105"/>
                  <a:pt x="2187" y="4121"/>
                  <a:pt x="2112" y="4101"/>
                </a:cubicBezTo>
                <a:cubicBezTo>
                  <a:pt x="2036" y="4080"/>
                  <a:pt x="2008" y="3990"/>
                  <a:pt x="1934" y="3962"/>
                </a:cubicBezTo>
                <a:cubicBezTo>
                  <a:pt x="1859" y="3933"/>
                  <a:pt x="1738" y="3924"/>
                  <a:pt x="1666" y="3932"/>
                </a:cubicBezTo>
                <a:cubicBezTo>
                  <a:pt x="1594" y="3940"/>
                  <a:pt x="1553" y="3973"/>
                  <a:pt x="1502" y="4010"/>
                </a:cubicBezTo>
                <a:cubicBezTo>
                  <a:pt x="1450" y="4046"/>
                  <a:pt x="1413" y="4114"/>
                  <a:pt x="1358" y="4154"/>
                </a:cubicBezTo>
                <a:cubicBezTo>
                  <a:pt x="1302" y="4193"/>
                  <a:pt x="1238" y="4234"/>
                  <a:pt x="1166" y="4250"/>
                </a:cubicBezTo>
                <a:cubicBezTo>
                  <a:pt x="1094" y="4266"/>
                  <a:pt x="1015" y="4267"/>
                  <a:pt x="926" y="4250"/>
                </a:cubicBezTo>
                <a:cubicBezTo>
                  <a:pt x="836" y="4232"/>
                  <a:pt x="707" y="4177"/>
                  <a:pt x="628" y="4147"/>
                </a:cubicBezTo>
                <a:cubicBezTo>
                  <a:pt x="548" y="4116"/>
                  <a:pt x="508" y="4113"/>
                  <a:pt x="451" y="4070"/>
                </a:cubicBezTo>
                <a:cubicBezTo>
                  <a:pt x="393" y="4026"/>
                  <a:pt x="313" y="3975"/>
                  <a:pt x="281" y="3886"/>
                </a:cubicBezTo>
                <a:cubicBezTo>
                  <a:pt x="248" y="3796"/>
                  <a:pt x="282" y="3605"/>
                  <a:pt x="254" y="3530"/>
                </a:cubicBezTo>
                <a:cubicBezTo>
                  <a:pt x="225" y="3454"/>
                  <a:pt x="150" y="3482"/>
                  <a:pt x="110" y="3434"/>
                </a:cubicBezTo>
                <a:cubicBezTo>
                  <a:pt x="70" y="3386"/>
                  <a:pt x="25" y="3306"/>
                  <a:pt x="14" y="3242"/>
                </a:cubicBezTo>
                <a:cubicBezTo>
                  <a:pt x="2" y="3177"/>
                  <a:pt x="17" y="3111"/>
                  <a:pt x="43" y="3047"/>
                </a:cubicBezTo>
                <a:cubicBezTo>
                  <a:pt x="68" y="2982"/>
                  <a:pt x="106" y="2910"/>
                  <a:pt x="166" y="2855"/>
                </a:cubicBezTo>
                <a:cubicBezTo>
                  <a:pt x="225" y="2799"/>
                  <a:pt x="335" y="2753"/>
                  <a:pt x="398" y="2714"/>
                </a:cubicBezTo>
                <a:cubicBezTo>
                  <a:pt x="460" y="2674"/>
                  <a:pt x="510" y="2658"/>
                  <a:pt x="542" y="2618"/>
                </a:cubicBezTo>
                <a:cubicBezTo>
                  <a:pt x="574" y="2578"/>
                  <a:pt x="610" y="2528"/>
                  <a:pt x="590" y="2474"/>
                </a:cubicBezTo>
                <a:cubicBezTo>
                  <a:pt x="569" y="2419"/>
                  <a:pt x="492" y="2333"/>
                  <a:pt x="420" y="2293"/>
                </a:cubicBezTo>
                <a:cubicBezTo>
                  <a:pt x="347" y="2252"/>
                  <a:pt x="223" y="2256"/>
                  <a:pt x="158" y="2234"/>
                </a:cubicBezTo>
                <a:cubicBezTo>
                  <a:pt x="92" y="2211"/>
                  <a:pt x="51" y="2194"/>
                  <a:pt x="28" y="2155"/>
                </a:cubicBezTo>
                <a:cubicBezTo>
                  <a:pt x="4" y="2115"/>
                  <a:pt x="0" y="2044"/>
                  <a:pt x="14" y="1994"/>
                </a:cubicBezTo>
                <a:cubicBezTo>
                  <a:pt x="27" y="1943"/>
                  <a:pt x="62" y="1898"/>
                  <a:pt x="110" y="1850"/>
                </a:cubicBezTo>
                <a:cubicBezTo>
                  <a:pt x="158" y="1802"/>
                  <a:pt x="269" y="1754"/>
                  <a:pt x="302" y="1706"/>
                </a:cubicBezTo>
                <a:cubicBezTo>
                  <a:pt x="334" y="1657"/>
                  <a:pt x="301" y="1600"/>
                  <a:pt x="302" y="1562"/>
                </a:cubicBezTo>
                <a:cubicBezTo>
                  <a:pt x="302" y="1524"/>
                  <a:pt x="287" y="1512"/>
                  <a:pt x="304" y="1478"/>
                </a:cubicBezTo>
                <a:cubicBezTo>
                  <a:pt x="320" y="1443"/>
                  <a:pt x="396" y="1396"/>
                  <a:pt x="404" y="1355"/>
                </a:cubicBezTo>
                <a:cubicBezTo>
                  <a:pt x="411" y="1314"/>
                  <a:pt x="384" y="1277"/>
                  <a:pt x="351" y="1232"/>
                </a:cubicBezTo>
                <a:cubicBezTo>
                  <a:pt x="318" y="1186"/>
                  <a:pt x="254" y="1134"/>
                  <a:pt x="206" y="1082"/>
                </a:cubicBezTo>
                <a:cubicBezTo>
                  <a:pt x="157" y="1029"/>
                  <a:pt x="89" y="979"/>
                  <a:pt x="58" y="916"/>
                </a:cubicBezTo>
                <a:cubicBezTo>
                  <a:pt x="26" y="852"/>
                  <a:pt x="13" y="774"/>
                  <a:pt x="14" y="698"/>
                </a:cubicBezTo>
                <a:cubicBezTo>
                  <a:pt x="14" y="621"/>
                  <a:pt x="38" y="529"/>
                  <a:pt x="62" y="458"/>
                </a:cubicBezTo>
                <a:cubicBezTo>
                  <a:pt x="85" y="386"/>
                  <a:pt x="118" y="321"/>
                  <a:pt x="158" y="266"/>
                </a:cubicBezTo>
                <a:cubicBezTo>
                  <a:pt x="197" y="210"/>
                  <a:pt x="237" y="155"/>
                  <a:pt x="302" y="122"/>
                </a:cubicBezTo>
                <a:cubicBezTo>
                  <a:pt x="366" y="88"/>
                  <a:pt x="455" y="71"/>
                  <a:pt x="543" y="63"/>
                </a:cubicBezTo>
                <a:cubicBezTo>
                  <a:pt x="631" y="55"/>
                  <a:pt x="750" y="48"/>
                  <a:pt x="830" y="74"/>
                </a:cubicBezTo>
                <a:cubicBezTo>
                  <a:pt x="909" y="99"/>
                  <a:pt x="974" y="162"/>
                  <a:pt x="1022" y="218"/>
                </a:cubicBezTo>
                <a:cubicBezTo>
                  <a:pt x="1070" y="274"/>
                  <a:pt x="1078" y="374"/>
                  <a:pt x="1118" y="410"/>
                </a:cubicBezTo>
                <a:cubicBezTo>
                  <a:pt x="1157" y="445"/>
                  <a:pt x="1211" y="443"/>
                  <a:pt x="1258" y="432"/>
                </a:cubicBezTo>
                <a:cubicBezTo>
                  <a:pt x="1304" y="420"/>
                  <a:pt x="1350" y="376"/>
                  <a:pt x="1397" y="340"/>
                </a:cubicBezTo>
                <a:cubicBezTo>
                  <a:pt x="1443" y="304"/>
                  <a:pt x="1479" y="223"/>
                  <a:pt x="1535" y="216"/>
                </a:cubicBezTo>
                <a:cubicBezTo>
                  <a:pt x="1590" y="208"/>
                  <a:pt x="1672" y="281"/>
                  <a:pt x="1728" y="293"/>
                </a:cubicBezTo>
                <a:cubicBezTo>
                  <a:pt x="1783" y="304"/>
                  <a:pt x="1813" y="314"/>
                  <a:pt x="1866" y="286"/>
                </a:cubicBezTo>
                <a:cubicBezTo>
                  <a:pt x="1918" y="257"/>
                  <a:pt x="1971" y="162"/>
                  <a:pt x="2043" y="124"/>
                </a:cubicBezTo>
                <a:cubicBezTo>
                  <a:pt x="2114" y="85"/>
                  <a:pt x="2243" y="63"/>
                  <a:pt x="2297" y="55"/>
                </a:cubicBezTo>
                <a:close/>
              </a:path>
            </a:pathLst>
          </a:custGeom>
          <a:solidFill>
            <a:srgbClr val="ffea18"/>
          </a:solidFill>
          <a:ln w="19080">
            <a:solidFill>
              <a:srgbClr val="3d383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04760"/>
            <a:ext cx="7772400" cy="38098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09120" indent="-2343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3708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1184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686960" indent="-1872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57913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57913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57913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57A1-6988-4736-ACFD-3E98B47EBE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
          <p:cNvSpPr/>
          <p:nvPr/>
        </p:nvSpPr>
        <p:spPr>
          <a:xfrm>
            <a:off x="54000" y="34920"/>
            <a:ext cx="9037440" cy="6773760"/>
          </a:xfrm>
          <a:custGeom>
            <a:avLst/>
            <a:gdLst/>
            <a:ahLst/>
            <a:rect l="l" t="t" r="r" b="b"/>
            <a:pathLst>
              <a:path w="5693" h="4267">
                <a:moveTo>
                  <a:pt x="2297" y="55"/>
                </a:moveTo>
                <a:cubicBezTo>
                  <a:pt x="2351" y="47"/>
                  <a:pt x="2421" y="72"/>
                  <a:pt x="2505" y="116"/>
                </a:cubicBezTo>
                <a:cubicBezTo>
                  <a:pt x="2588" y="159"/>
                  <a:pt x="2709" y="313"/>
                  <a:pt x="2798" y="314"/>
                </a:cubicBezTo>
                <a:cubicBezTo>
                  <a:pt x="2886" y="314"/>
                  <a:pt x="2974" y="153"/>
                  <a:pt x="3038" y="122"/>
                </a:cubicBezTo>
                <a:cubicBezTo>
                  <a:pt x="3101" y="90"/>
                  <a:pt x="3150" y="106"/>
                  <a:pt x="3182" y="122"/>
                </a:cubicBezTo>
                <a:cubicBezTo>
                  <a:pt x="3214" y="138"/>
                  <a:pt x="3222" y="178"/>
                  <a:pt x="3230" y="218"/>
                </a:cubicBezTo>
                <a:cubicBezTo>
                  <a:pt x="3237" y="257"/>
                  <a:pt x="3214" y="330"/>
                  <a:pt x="3230" y="362"/>
                </a:cubicBezTo>
                <a:cubicBezTo>
                  <a:pt x="3246" y="394"/>
                  <a:pt x="3294" y="410"/>
                  <a:pt x="3326" y="410"/>
                </a:cubicBezTo>
                <a:cubicBezTo>
                  <a:pt x="3358" y="410"/>
                  <a:pt x="3390" y="402"/>
                  <a:pt x="3422" y="362"/>
                </a:cubicBezTo>
                <a:cubicBezTo>
                  <a:pt x="3454" y="322"/>
                  <a:pt x="3478" y="225"/>
                  <a:pt x="3518" y="170"/>
                </a:cubicBezTo>
                <a:cubicBezTo>
                  <a:pt x="3557" y="114"/>
                  <a:pt x="3593" y="51"/>
                  <a:pt x="3662" y="26"/>
                </a:cubicBezTo>
                <a:cubicBezTo>
                  <a:pt x="3730" y="0"/>
                  <a:pt x="3859" y="2"/>
                  <a:pt x="3928" y="16"/>
                </a:cubicBezTo>
                <a:cubicBezTo>
                  <a:pt x="3996" y="29"/>
                  <a:pt x="4038" y="51"/>
                  <a:pt x="4074" y="109"/>
                </a:cubicBezTo>
                <a:cubicBezTo>
                  <a:pt x="4109" y="166"/>
                  <a:pt x="4102" y="301"/>
                  <a:pt x="4142" y="362"/>
                </a:cubicBezTo>
                <a:cubicBezTo>
                  <a:pt x="4181" y="422"/>
                  <a:pt x="4245" y="454"/>
                  <a:pt x="4312" y="470"/>
                </a:cubicBezTo>
                <a:cubicBezTo>
                  <a:pt x="4378" y="485"/>
                  <a:pt x="4483" y="480"/>
                  <a:pt x="4543" y="455"/>
                </a:cubicBezTo>
                <a:cubicBezTo>
                  <a:pt x="4602" y="429"/>
                  <a:pt x="4624" y="369"/>
                  <a:pt x="4670" y="314"/>
                </a:cubicBezTo>
                <a:cubicBezTo>
                  <a:pt x="4715" y="258"/>
                  <a:pt x="4749" y="170"/>
                  <a:pt x="4814" y="122"/>
                </a:cubicBezTo>
                <a:cubicBezTo>
                  <a:pt x="4878" y="73"/>
                  <a:pt x="4966" y="42"/>
                  <a:pt x="5054" y="26"/>
                </a:cubicBezTo>
                <a:cubicBezTo>
                  <a:pt x="5142" y="10"/>
                  <a:pt x="5254" y="2"/>
                  <a:pt x="5342" y="26"/>
                </a:cubicBezTo>
                <a:cubicBezTo>
                  <a:pt x="5430" y="50"/>
                  <a:pt x="5526" y="106"/>
                  <a:pt x="5582" y="170"/>
                </a:cubicBezTo>
                <a:cubicBezTo>
                  <a:pt x="5638" y="234"/>
                  <a:pt x="5662" y="346"/>
                  <a:pt x="5678" y="410"/>
                </a:cubicBezTo>
                <a:cubicBezTo>
                  <a:pt x="5693" y="473"/>
                  <a:pt x="5687" y="497"/>
                  <a:pt x="5678" y="554"/>
                </a:cubicBezTo>
                <a:cubicBezTo>
                  <a:pt x="5668" y="610"/>
                  <a:pt x="5644" y="691"/>
                  <a:pt x="5620" y="747"/>
                </a:cubicBezTo>
                <a:cubicBezTo>
                  <a:pt x="5596" y="803"/>
                  <a:pt x="5563" y="838"/>
                  <a:pt x="5534" y="890"/>
                </a:cubicBezTo>
                <a:cubicBezTo>
                  <a:pt x="5504" y="941"/>
                  <a:pt x="5472" y="987"/>
                  <a:pt x="5443" y="1055"/>
                </a:cubicBezTo>
                <a:cubicBezTo>
                  <a:pt x="5413" y="1122"/>
                  <a:pt x="5383" y="1226"/>
                  <a:pt x="5359" y="1293"/>
                </a:cubicBezTo>
                <a:cubicBezTo>
                  <a:pt x="5334" y="1359"/>
                  <a:pt x="5300" y="1403"/>
                  <a:pt x="5297" y="1455"/>
                </a:cubicBezTo>
                <a:cubicBezTo>
                  <a:pt x="5293" y="1506"/>
                  <a:pt x="5320" y="1559"/>
                  <a:pt x="5336" y="1601"/>
                </a:cubicBezTo>
                <a:cubicBezTo>
                  <a:pt x="5351" y="1642"/>
                  <a:pt x="5348" y="1656"/>
                  <a:pt x="5390" y="1706"/>
                </a:cubicBezTo>
                <a:cubicBezTo>
                  <a:pt x="5431" y="1755"/>
                  <a:pt x="5542" y="1842"/>
                  <a:pt x="5582" y="1898"/>
                </a:cubicBezTo>
                <a:cubicBezTo>
                  <a:pt x="5621" y="1953"/>
                  <a:pt x="5630" y="1978"/>
                  <a:pt x="5630" y="2042"/>
                </a:cubicBezTo>
                <a:cubicBezTo>
                  <a:pt x="5630" y="2106"/>
                  <a:pt x="5621" y="2218"/>
                  <a:pt x="5582" y="2282"/>
                </a:cubicBezTo>
                <a:cubicBezTo>
                  <a:pt x="5542" y="2345"/>
                  <a:pt x="5453" y="2394"/>
                  <a:pt x="5390" y="2426"/>
                </a:cubicBezTo>
                <a:cubicBezTo>
                  <a:pt x="5326" y="2457"/>
                  <a:pt x="5237" y="2450"/>
                  <a:pt x="5198" y="2474"/>
                </a:cubicBezTo>
                <a:cubicBezTo>
                  <a:pt x="5158" y="2497"/>
                  <a:pt x="5134" y="2538"/>
                  <a:pt x="5150" y="2570"/>
                </a:cubicBezTo>
                <a:cubicBezTo>
                  <a:pt x="5166" y="2602"/>
                  <a:pt x="5246" y="2626"/>
                  <a:pt x="5294" y="2666"/>
                </a:cubicBezTo>
                <a:cubicBezTo>
                  <a:pt x="5342" y="2706"/>
                  <a:pt x="5422" y="2762"/>
                  <a:pt x="5438" y="2810"/>
                </a:cubicBezTo>
                <a:cubicBezTo>
                  <a:pt x="5453" y="2857"/>
                  <a:pt x="5406" y="2922"/>
                  <a:pt x="5390" y="2954"/>
                </a:cubicBezTo>
                <a:cubicBezTo>
                  <a:pt x="5374" y="2986"/>
                  <a:pt x="5349" y="2978"/>
                  <a:pt x="5342" y="3002"/>
                </a:cubicBezTo>
                <a:cubicBezTo>
                  <a:pt x="5334" y="3025"/>
                  <a:pt x="5326" y="3058"/>
                  <a:pt x="5342" y="3098"/>
                </a:cubicBezTo>
                <a:cubicBezTo>
                  <a:pt x="5358" y="3138"/>
                  <a:pt x="5398" y="3186"/>
                  <a:pt x="5438" y="3242"/>
                </a:cubicBezTo>
                <a:cubicBezTo>
                  <a:pt x="5477" y="3297"/>
                  <a:pt x="5542" y="3370"/>
                  <a:pt x="5582" y="3434"/>
                </a:cubicBezTo>
                <a:cubicBezTo>
                  <a:pt x="5621" y="3497"/>
                  <a:pt x="5670" y="3546"/>
                  <a:pt x="5678" y="3626"/>
                </a:cubicBezTo>
                <a:cubicBezTo>
                  <a:pt x="5686" y="3706"/>
                  <a:pt x="5670" y="3834"/>
                  <a:pt x="5630" y="3914"/>
                </a:cubicBezTo>
                <a:cubicBezTo>
                  <a:pt x="5590" y="3994"/>
                  <a:pt x="5502" y="4057"/>
                  <a:pt x="5438" y="4106"/>
                </a:cubicBezTo>
                <a:cubicBezTo>
                  <a:pt x="5373" y="4154"/>
                  <a:pt x="5317" y="4178"/>
                  <a:pt x="5246" y="4202"/>
                </a:cubicBezTo>
                <a:cubicBezTo>
                  <a:pt x="5174" y="4225"/>
                  <a:pt x="5086" y="4242"/>
                  <a:pt x="5006" y="4250"/>
                </a:cubicBezTo>
                <a:cubicBezTo>
                  <a:pt x="4926" y="4258"/>
                  <a:pt x="4860" y="4256"/>
                  <a:pt x="4766" y="4250"/>
                </a:cubicBezTo>
                <a:cubicBezTo>
                  <a:pt x="4671" y="4243"/>
                  <a:pt x="4528" y="4230"/>
                  <a:pt x="4436" y="4209"/>
                </a:cubicBezTo>
                <a:cubicBezTo>
                  <a:pt x="4343" y="4188"/>
                  <a:pt x="4270" y="4170"/>
                  <a:pt x="4212" y="4124"/>
                </a:cubicBezTo>
                <a:cubicBezTo>
                  <a:pt x="4153" y="4077"/>
                  <a:pt x="4121" y="4003"/>
                  <a:pt x="4082" y="3932"/>
                </a:cubicBezTo>
                <a:cubicBezTo>
                  <a:pt x="4042" y="3860"/>
                  <a:pt x="4015" y="3700"/>
                  <a:pt x="3974" y="3693"/>
                </a:cubicBezTo>
                <a:cubicBezTo>
                  <a:pt x="3932" y="3685"/>
                  <a:pt x="3896" y="3827"/>
                  <a:pt x="3835" y="3886"/>
                </a:cubicBezTo>
                <a:cubicBezTo>
                  <a:pt x="3773" y="3944"/>
                  <a:pt x="3689" y="3995"/>
                  <a:pt x="3605" y="4047"/>
                </a:cubicBezTo>
                <a:cubicBezTo>
                  <a:pt x="3520" y="4098"/>
                  <a:pt x="3406" y="4167"/>
                  <a:pt x="3328" y="4193"/>
                </a:cubicBezTo>
                <a:cubicBezTo>
                  <a:pt x="3249" y="4218"/>
                  <a:pt x="3206" y="4216"/>
                  <a:pt x="3134" y="4202"/>
                </a:cubicBezTo>
                <a:cubicBezTo>
                  <a:pt x="3061" y="4187"/>
                  <a:pt x="2966" y="4138"/>
                  <a:pt x="2894" y="4106"/>
                </a:cubicBezTo>
                <a:cubicBezTo>
                  <a:pt x="2821" y="4073"/>
                  <a:pt x="2757" y="4029"/>
                  <a:pt x="2702" y="4010"/>
                </a:cubicBezTo>
                <a:cubicBezTo>
                  <a:pt x="2646" y="3990"/>
                  <a:pt x="2610" y="3973"/>
                  <a:pt x="2558" y="3986"/>
                </a:cubicBezTo>
                <a:cubicBezTo>
                  <a:pt x="2505" y="3998"/>
                  <a:pt x="2463" y="4066"/>
                  <a:pt x="2389" y="4086"/>
                </a:cubicBezTo>
                <a:cubicBezTo>
                  <a:pt x="2314" y="4105"/>
                  <a:pt x="2187" y="4121"/>
                  <a:pt x="2112" y="4101"/>
                </a:cubicBezTo>
                <a:cubicBezTo>
                  <a:pt x="2036" y="4080"/>
                  <a:pt x="2008" y="3990"/>
                  <a:pt x="1934" y="3962"/>
                </a:cubicBezTo>
                <a:cubicBezTo>
                  <a:pt x="1859" y="3933"/>
                  <a:pt x="1738" y="3924"/>
                  <a:pt x="1666" y="3932"/>
                </a:cubicBezTo>
                <a:cubicBezTo>
                  <a:pt x="1594" y="3940"/>
                  <a:pt x="1553" y="3973"/>
                  <a:pt x="1502" y="4010"/>
                </a:cubicBezTo>
                <a:cubicBezTo>
                  <a:pt x="1450" y="4046"/>
                  <a:pt x="1413" y="4114"/>
                  <a:pt x="1358" y="4154"/>
                </a:cubicBezTo>
                <a:cubicBezTo>
                  <a:pt x="1302" y="4193"/>
                  <a:pt x="1238" y="4234"/>
                  <a:pt x="1166" y="4250"/>
                </a:cubicBezTo>
                <a:cubicBezTo>
                  <a:pt x="1094" y="4266"/>
                  <a:pt x="1015" y="4267"/>
                  <a:pt x="926" y="4250"/>
                </a:cubicBezTo>
                <a:cubicBezTo>
                  <a:pt x="836" y="4232"/>
                  <a:pt x="707" y="4177"/>
                  <a:pt x="628" y="4147"/>
                </a:cubicBezTo>
                <a:cubicBezTo>
                  <a:pt x="548" y="4116"/>
                  <a:pt x="508" y="4113"/>
                  <a:pt x="451" y="4070"/>
                </a:cubicBezTo>
                <a:cubicBezTo>
                  <a:pt x="393" y="4026"/>
                  <a:pt x="313" y="3975"/>
                  <a:pt x="281" y="3886"/>
                </a:cubicBezTo>
                <a:cubicBezTo>
                  <a:pt x="248" y="3796"/>
                  <a:pt x="282" y="3605"/>
                  <a:pt x="254" y="3530"/>
                </a:cubicBezTo>
                <a:cubicBezTo>
                  <a:pt x="225" y="3454"/>
                  <a:pt x="150" y="3482"/>
                  <a:pt x="110" y="3434"/>
                </a:cubicBezTo>
                <a:cubicBezTo>
                  <a:pt x="70" y="3386"/>
                  <a:pt x="25" y="3306"/>
                  <a:pt x="14" y="3242"/>
                </a:cubicBezTo>
                <a:cubicBezTo>
                  <a:pt x="2" y="3177"/>
                  <a:pt x="17" y="3111"/>
                  <a:pt x="43" y="3047"/>
                </a:cubicBezTo>
                <a:cubicBezTo>
                  <a:pt x="68" y="2982"/>
                  <a:pt x="106" y="2910"/>
                  <a:pt x="166" y="2855"/>
                </a:cubicBezTo>
                <a:cubicBezTo>
                  <a:pt x="225" y="2799"/>
                  <a:pt x="335" y="2753"/>
                  <a:pt x="398" y="2714"/>
                </a:cubicBezTo>
                <a:cubicBezTo>
                  <a:pt x="460" y="2674"/>
                  <a:pt x="510" y="2658"/>
                  <a:pt x="542" y="2618"/>
                </a:cubicBezTo>
                <a:cubicBezTo>
                  <a:pt x="574" y="2578"/>
                  <a:pt x="610" y="2528"/>
                  <a:pt x="590" y="2474"/>
                </a:cubicBezTo>
                <a:cubicBezTo>
                  <a:pt x="569" y="2419"/>
                  <a:pt x="492" y="2333"/>
                  <a:pt x="420" y="2293"/>
                </a:cubicBezTo>
                <a:cubicBezTo>
                  <a:pt x="347" y="2252"/>
                  <a:pt x="223" y="2256"/>
                  <a:pt x="158" y="2234"/>
                </a:cubicBezTo>
                <a:cubicBezTo>
                  <a:pt x="92" y="2211"/>
                  <a:pt x="51" y="2194"/>
                  <a:pt x="28" y="2155"/>
                </a:cubicBezTo>
                <a:cubicBezTo>
                  <a:pt x="4" y="2115"/>
                  <a:pt x="0" y="2044"/>
                  <a:pt x="14" y="1994"/>
                </a:cubicBezTo>
                <a:cubicBezTo>
                  <a:pt x="27" y="1943"/>
                  <a:pt x="62" y="1898"/>
                  <a:pt x="110" y="1850"/>
                </a:cubicBezTo>
                <a:cubicBezTo>
                  <a:pt x="158" y="1802"/>
                  <a:pt x="269" y="1754"/>
                  <a:pt x="302" y="1706"/>
                </a:cubicBezTo>
                <a:cubicBezTo>
                  <a:pt x="334" y="1657"/>
                  <a:pt x="301" y="1600"/>
                  <a:pt x="302" y="1562"/>
                </a:cubicBezTo>
                <a:cubicBezTo>
                  <a:pt x="302" y="1524"/>
                  <a:pt x="287" y="1512"/>
                  <a:pt x="304" y="1478"/>
                </a:cubicBezTo>
                <a:cubicBezTo>
                  <a:pt x="320" y="1443"/>
                  <a:pt x="396" y="1396"/>
                  <a:pt x="404" y="1355"/>
                </a:cubicBezTo>
                <a:cubicBezTo>
                  <a:pt x="411" y="1314"/>
                  <a:pt x="384" y="1277"/>
                  <a:pt x="351" y="1232"/>
                </a:cubicBezTo>
                <a:cubicBezTo>
                  <a:pt x="318" y="1186"/>
                  <a:pt x="254" y="1134"/>
                  <a:pt x="206" y="1082"/>
                </a:cubicBezTo>
                <a:cubicBezTo>
                  <a:pt x="157" y="1029"/>
                  <a:pt x="89" y="979"/>
                  <a:pt x="58" y="916"/>
                </a:cubicBezTo>
                <a:cubicBezTo>
                  <a:pt x="26" y="852"/>
                  <a:pt x="13" y="774"/>
                  <a:pt x="14" y="698"/>
                </a:cubicBezTo>
                <a:cubicBezTo>
                  <a:pt x="14" y="621"/>
                  <a:pt x="38" y="529"/>
                  <a:pt x="62" y="458"/>
                </a:cubicBezTo>
                <a:cubicBezTo>
                  <a:pt x="85" y="386"/>
                  <a:pt x="118" y="321"/>
                  <a:pt x="158" y="266"/>
                </a:cubicBezTo>
                <a:cubicBezTo>
                  <a:pt x="197" y="210"/>
                  <a:pt x="237" y="155"/>
                  <a:pt x="302" y="122"/>
                </a:cubicBezTo>
                <a:cubicBezTo>
                  <a:pt x="366" y="88"/>
                  <a:pt x="455" y="71"/>
                  <a:pt x="543" y="63"/>
                </a:cubicBezTo>
                <a:cubicBezTo>
                  <a:pt x="631" y="55"/>
                  <a:pt x="750" y="48"/>
                  <a:pt x="830" y="74"/>
                </a:cubicBezTo>
                <a:cubicBezTo>
                  <a:pt x="909" y="99"/>
                  <a:pt x="974" y="162"/>
                  <a:pt x="1022" y="218"/>
                </a:cubicBezTo>
                <a:cubicBezTo>
                  <a:pt x="1070" y="274"/>
                  <a:pt x="1078" y="374"/>
                  <a:pt x="1118" y="410"/>
                </a:cubicBezTo>
                <a:cubicBezTo>
                  <a:pt x="1157" y="445"/>
                  <a:pt x="1211" y="443"/>
                  <a:pt x="1258" y="432"/>
                </a:cubicBezTo>
                <a:cubicBezTo>
                  <a:pt x="1304" y="420"/>
                  <a:pt x="1350" y="376"/>
                  <a:pt x="1397" y="340"/>
                </a:cubicBezTo>
                <a:cubicBezTo>
                  <a:pt x="1443" y="304"/>
                  <a:pt x="1479" y="223"/>
                  <a:pt x="1535" y="216"/>
                </a:cubicBezTo>
                <a:cubicBezTo>
                  <a:pt x="1590" y="208"/>
                  <a:pt x="1672" y="281"/>
                  <a:pt x="1728" y="293"/>
                </a:cubicBezTo>
                <a:cubicBezTo>
                  <a:pt x="1783" y="304"/>
                  <a:pt x="1813" y="314"/>
                  <a:pt x="1866" y="286"/>
                </a:cubicBezTo>
                <a:cubicBezTo>
                  <a:pt x="1918" y="257"/>
                  <a:pt x="1971" y="162"/>
                  <a:pt x="2043" y="124"/>
                </a:cubicBezTo>
                <a:cubicBezTo>
                  <a:pt x="2114" y="85"/>
                  <a:pt x="2243" y="63"/>
                  <a:pt x="2297" y="55"/>
                </a:cubicBezTo>
                <a:close/>
              </a:path>
            </a:pathLst>
          </a:custGeom>
          <a:solidFill>
            <a:srgbClr val="ffea18"/>
          </a:solidFill>
          <a:ln w="19080">
            <a:solidFill>
              <a:srgbClr val="3d383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800" y="1028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dt" idx="4"/>
          </p:nvPr>
        </p:nvSpPr>
        <p:spPr>
          <a:xfrm>
            <a:off x="685800" y="57834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578340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578340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99839-F94F-4093-A0AD-78E38E693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ir Shoes</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44792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ok Into the Lives of Charac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iana Jones</a:t>
            </a:r>
            <a:endParaRPr b="0" lang="en-US" sz="4400" spc="-1" strike="noStrike">
              <a:solidFill>
                <a:srgbClr val="000000"/>
              </a:solidFill>
              <a:latin typeface="Times New Roman"/>
            </a:endParaRPr>
          </a:p>
        </p:txBody>
      </p:sp>
      <p:sp>
        <p:nvSpPr>
          <p:cNvPr id="110"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ana Jones is a brilliant, world famous professor of archaeology and history that travels the world for adventure. Unfortunately for Dr. Jones, his adventures often mean that trouble is not too far behind. However, his brains and ability to think quick help him to overcome great obstacles. </a:t>
            </a:r>
            <a:endParaRPr b="0" lang="en-US" sz="2400" spc="-1" strike="noStrike">
              <a:solidFill>
                <a:srgbClr val="000000"/>
              </a:solidFill>
              <a:latin typeface="Times New Roman"/>
            </a:endParaRPr>
          </a:p>
        </p:txBody>
      </p:sp>
      <p:pic>
        <p:nvPicPr>
          <p:cNvPr id="111" name="" descr=""/>
          <p:cNvPicPr/>
          <p:nvPr/>
        </p:nvPicPr>
        <p:blipFill>
          <a:blip r:embed="rId2"/>
          <a:stretch/>
        </p:blipFill>
        <p:spPr>
          <a:xfrm>
            <a:off x="1320840" y="1905120"/>
            <a:ext cx="2539800" cy="380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ddin</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83000"/>
          </a:bodyPr>
          <a:p>
            <a:pPr marL="284400" indent="-2844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ddin is a poor young man living on the streets, stealing to eat. Then, one chance meeting with a genie changes his life. With the help of the genie, Aladdin is able to win the heart of Princess Jasmine and defeat the evil Jaffar. </a:t>
            </a:r>
            <a:endParaRPr b="0" lang="en-US" sz="2400" spc="-1" strike="noStrike">
              <a:solidFill>
                <a:srgbClr val="000000"/>
              </a:solidFill>
              <a:latin typeface="Times New Roman"/>
            </a:endParaRPr>
          </a:p>
        </p:txBody>
      </p:sp>
      <p:pic>
        <p:nvPicPr>
          <p:cNvPr id="114" name="" descr=""/>
          <p:cNvPicPr/>
          <p:nvPr/>
        </p:nvPicPr>
        <p:blipFill>
          <a:blip r:embed="rId2"/>
          <a:stretch/>
        </p:blipFill>
        <p:spPr>
          <a:xfrm>
            <a:off x="685800" y="2671920"/>
            <a:ext cx="3809880" cy="22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a:t>
            </a:r>
            <a:endParaRPr b="0" lang="en-US" sz="4400" spc="-1" strike="noStrike">
              <a:solidFill>
                <a:srgbClr val="000000"/>
              </a:solidFill>
              <a:latin typeface="Times New Roman"/>
            </a:endParaRPr>
          </a:p>
        </p:txBody>
      </p:sp>
      <p:sp>
        <p:nvSpPr>
          <p:cNvPr id="116" name="PlaceHolder 2"/>
          <p:cNvSpPr>
            <a:spLocks noGrp="1"/>
          </p:cNvSpPr>
          <p:nvPr>
            <p:ph/>
          </p:nvPr>
        </p:nvSpPr>
        <p:spPr>
          <a:xfrm>
            <a:off x="4647960" y="1752480"/>
            <a:ext cx="3809880" cy="3810240"/>
          </a:xfrm>
          <a:prstGeom prst="rect">
            <a:avLst/>
          </a:prstGeom>
          <a:noFill/>
          <a:ln w="0">
            <a:noFill/>
          </a:ln>
        </p:spPr>
        <p:txBody>
          <a:bodyPr lIns="90000" rIns="90000" tIns="46800" bIns="46800" anchor="t">
            <a:normAutofit fontScale="73000"/>
          </a:bodyPr>
          <a:p>
            <a:pPr marL="250200" indent="-2502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rek is an ogre that lives alone in the woods, has no friends, and likes it like that. He is seen as being scary and dangerous but is really harmless. However, things change when he is asked to rescue Princess Fiona for the King, who is actually evil. Now Shrek must defeat the King with the help of his new friends Donkey and Princess Fiona.</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1355760" y="1905120"/>
            <a:ext cx="246996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ion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3 characteristics of this character (use adjectiv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write 2 sentences about what it would be like to live this character’s lif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rry Potter</a:t>
            </a:r>
            <a:endParaRPr b="0" lang="en-US" sz="4400" spc="-1" strike="noStrike">
              <a:solidFill>
                <a:srgbClr val="000000"/>
              </a:solidFill>
              <a:latin typeface="Times New Roman"/>
            </a:endParaRPr>
          </a:p>
        </p:txBody>
      </p:sp>
      <p:sp>
        <p:nvSpPr>
          <p:cNvPr id="89"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79000"/>
          </a:bodyPr>
          <a:p>
            <a:pPr marL="270720" indent="-2707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ry Potter is a young wizard-in-training, who is trying to deal with with his new powers, cruel family, and his dangerous enemy Voldemort. Luckily, Harry has two great friends, Ron and Hermione to help him in his journey through life.</a:t>
            </a:r>
            <a:endParaRPr b="0" lang="en-US" sz="2400" spc="-1" strike="noStrike">
              <a:solidFill>
                <a:srgbClr val="000000"/>
              </a:solidFill>
              <a:latin typeface="Times New Roman"/>
            </a:endParaRPr>
          </a:p>
        </p:txBody>
      </p:sp>
      <p:pic>
        <p:nvPicPr>
          <p:cNvPr id="90" name="" descr=""/>
          <p:cNvPicPr/>
          <p:nvPr/>
        </p:nvPicPr>
        <p:blipFill>
          <a:blip r:embed="rId2"/>
          <a:stretch/>
        </p:blipFill>
        <p:spPr>
          <a:xfrm>
            <a:off x="685800" y="1949400"/>
            <a:ext cx="3809880" cy="372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uce Wayne (AKA Batman)</a:t>
            </a:r>
            <a:endParaRPr b="0" lang="en-US" sz="4400" spc="-1" strike="noStrike">
              <a:solidFill>
                <a:srgbClr val="000000"/>
              </a:solidFill>
              <a:latin typeface="Times New Roman"/>
            </a:endParaRPr>
          </a:p>
        </p:txBody>
      </p:sp>
      <p:sp>
        <p:nvSpPr>
          <p:cNvPr id="92"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ce Wayne is a billionaire that lives a double life as a business man and superhero. After witnessing the death of his parents, Bruce Wayne vowed to fight crime and make Gotham City a safe place. Unfortunately, the villains he must face are evil and dangerous. </a:t>
            </a:r>
            <a:endParaRPr b="0" lang="en-US" sz="2400" spc="-1" strike="noStrike">
              <a:solidFill>
                <a:srgbClr val="000000"/>
              </a:solidFill>
              <a:latin typeface="Times New Roman"/>
            </a:endParaRPr>
          </a:p>
        </p:txBody>
      </p:sp>
      <p:pic>
        <p:nvPicPr>
          <p:cNvPr id="93" name="" descr=""/>
          <p:cNvPicPr/>
          <p:nvPr/>
        </p:nvPicPr>
        <p:blipFill>
          <a:blip r:embed="rId2"/>
          <a:stretch/>
        </p:blipFill>
        <p:spPr>
          <a:xfrm>
            <a:off x="1230480" y="1905120"/>
            <a:ext cx="272088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tty Suarez</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y is an average girl working in the harsh world of fashion. While the people in her office may be cruel, Betty has a supportive and loving family. She may not be the prettiest girl, but her intelligence, dedication, and good-hearted nature make her joy to be around.</a:t>
            </a:r>
            <a:endParaRPr b="0" lang="en-US" sz="2400" spc="-1" strike="noStrike">
              <a:solidFill>
                <a:srgbClr val="000000"/>
              </a:solidFill>
              <a:latin typeface="Times New Roman"/>
            </a:endParaRPr>
          </a:p>
        </p:txBody>
      </p:sp>
      <p:pic>
        <p:nvPicPr>
          <p:cNvPr id="96" name="" descr=""/>
          <p:cNvPicPr/>
          <p:nvPr/>
        </p:nvPicPr>
        <p:blipFill>
          <a:blip r:embed="rId2"/>
          <a:stretch/>
        </p:blipFill>
        <p:spPr>
          <a:xfrm>
            <a:off x="1162080" y="1905120"/>
            <a:ext cx="285732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Zack Morris</a:t>
            </a:r>
            <a:endParaRPr b="0" lang="en-US" sz="4400" spc="-1" strike="noStrike">
              <a:solidFill>
                <a:srgbClr val="000000"/>
              </a:solidFill>
              <a:latin typeface="Times New Roman"/>
            </a:endParaRPr>
          </a:p>
        </p:txBody>
      </p:sp>
      <p:sp>
        <p:nvSpPr>
          <p:cNvPr id="98"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79000"/>
          </a:bodyPr>
          <a:p>
            <a:pPr marL="270720" indent="-2707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ack is a popular high school student that has a difficult time staying out of trouble. While he’s a good person and great friend, for some reason he never learns his lesson. Zack is quick-witted and can always come up with a plan to solve a problem.</a:t>
            </a:r>
            <a:endParaRPr b="0" lang="en-US" sz="2400" spc="-1" strike="noStrike">
              <a:solidFill>
                <a:srgbClr val="000000"/>
              </a:solidFill>
              <a:latin typeface="Times New Roman"/>
            </a:endParaRPr>
          </a:p>
        </p:txBody>
      </p:sp>
      <p:pic>
        <p:nvPicPr>
          <p:cNvPr id="99" name="" descr=""/>
          <p:cNvPicPr/>
          <p:nvPr/>
        </p:nvPicPr>
        <p:blipFill>
          <a:blip r:embed="rId2"/>
          <a:stretch/>
        </p:blipFill>
        <p:spPr>
          <a:xfrm>
            <a:off x="746280" y="1905120"/>
            <a:ext cx="368748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cked Witch of the East</a:t>
            </a:r>
            <a:endParaRPr b="0" lang="en-US" sz="4400" spc="-1" strike="noStrike">
              <a:solidFill>
                <a:srgbClr val="000000"/>
              </a:solidFill>
              <a:latin typeface="Times New Roman"/>
            </a:endParaRPr>
          </a:p>
        </p:txBody>
      </p:sp>
      <p:sp>
        <p:nvSpPr>
          <p:cNvPr id="101" name="PlaceHolder 2"/>
          <p:cNvSpPr>
            <a:spLocks noGrp="1"/>
          </p:cNvSpPr>
          <p:nvPr>
            <p:ph/>
          </p:nvPr>
        </p:nvSpPr>
        <p:spPr>
          <a:xfrm>
            <a:off x="4647960" y="1676520"/>
            <a:ext cx="3809880" cy="403848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is evil, demanding, and in need of beautiful Ruby slippers. After watching her sister, the Wicked Witch of the West, die from Dorothy’s house landing on her, the Wicked Witch of the East is out for revenge. Furthermore, she believes that Dorothy has stolen the Ruby slippers that should belong to her.</a:t>
            </a:r>
            <a:endParaRPr b="0" lang="en-US" sz="2400" spc="-1" strike="noStrike">
              <a:solidFill>
                <a:srgbClr val="000000"/>
              </a:solidFill>
              <a:latin typeface="Times New Roman"/>
            </a:endParaRPr>
          </a:p>
        </p:txBody>
      </p:sp>
      <p:pic>
        <p:nvPicPr>
          <p:cNvPr id="102" name="" descr=""/>
          <p:cNvPicPr/>
          <p:nvPr/>
        </p:nvPicPr>
        <p:blipFill>
          <a:blip r:embed="rId2"/>
          <a:stretch/>
        </p:blipFill>
        <p:spPr>
          <a:xfrm>
            <a:off x="685800" y="2406600"/>
            <a:ext cx="3809880" cy="280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nah Montana</a:t>
            </a:r>
            <a:endParaRPr b="0" lang="en-US" sz="4400" spc="-1" strike="noStrike">
              <a:solidFill>
                <a:srgbClr val="000000"/>
              </a:solidFill>
              <a:latin typeface="Times New Roman"/>
            </a:endParaRPr>
          </a:p>
        </p:txBody>
      </p:sp>
      <p:sp>
        <p:nvSpPr>
          <p:cNvPr id="104"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nah Montana is a small time girl, living a double-life as an average student and pop star. As Miley, she is a normal high school student dealing with the everyday problems of growing up. As Hannah Montana, she is a beloved super famous singer.</a:t>
            </a:r>
            <a:endParaRPr b="0" lang="en-US" sz="2400" spc="-1" strike="noStrike">
              <a:solidFill>
                <a:srgbClr val="000000"/>
              </a:solidFill>
              <a:latin typeface="Times New Roman"/>
            </a:endParaRPr>
          </a:p>
        </p:txBody>
      </p:sp>
      <p:pic>
        <p:nvPicPr>
          <p:cNvPr id="105" name="" descr=""/>
          <p:cNvPicPr/>
          <p:nvPr/>
        </p:nvPicPr>
        <p:blipFill>
          <a:blip r:embed="rId2"/>
          <a:stretch/>
        </p:blipFill>
        <p:spPr>
          <a:xfrm>
            <a:off x="1155600" y="1905120"/>
            <a:ext cx="287028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y Bolton</a:t>
            </a:r>
            <a:endParaRPr b="0" lang="en-US" sz="4400" spc="-1" strike="noStrike">
              <a:solidFill>
                <a:srgbClr val="000000"/>
              </a:solidFill>
              <a:latin typeface="Times New Roman"/>
            </a:endParaRPr>
          </a:p>
        </p:txBody>
      </p:sp>
      <p:sp>
        <p:nvSpPr>
          <p:cNvPr id="107" name="PlaceHolder 2"/>
          <p:cNvSpPr>
            <a:spLocks noGrp="1"/>
          </p:cNvSpPr>
          <p:nvPr>
            <p:ph/>
          </p:nvPr>
        </p:nvSpPr>
        <p:spPr>
          <a:xfrm>
            <a:off x="4647960" y="1904760"/>
            <a:ext cx="3809880" cy="3809880"/>
          </a:xfrm>
          <a:prstGeom prst="rect">
            <a:avLst/>
          </a:prstGeom>
          <a:noFill/>
          <a:ln w="0">
            <a:noFill/>
          </a:ln>
        </p:spPr>
        <p:txBody>
          <a:bodyPr lIns="90000" rIns="90000" tIns="46800" bIns="46800" anchor="t">
            <a:normAutofit fontScale="75000"/>
          </a:bodyPr>
          <a:p>
            <a:pPr marL="257040" indent="-2570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y is a high school basketball player seeking a scholarship to college. He is in love with a new girl named Gabriella and has a secret passion for singing. Troy is able to express his love for music in the auditions for the high school musical, but now must decide if music is more important than the big game.</a:t>
            </a:r>
            <a:endParaRPr b="0" lang="en-US" sz="2400" spc="-1" strike="noStrike">
              <a:solidFill>
                <a:srgbClr val="000000"/>
              </a:solidFill>
              <a:latin typeface="Times New Roman"/>
            </a:endParaRPr>
          </a:p>
        </p:txBody>
      </p:sp>
      <p:pic>
        <p:nvPicPr>
          <p:cNvPr id="108" name="" descr=""/>
          <p:cNvPicPr/>
          <p:nvPr/>
        </p:nvPicPr>
        <p:blipFill>
          <a:blip r:embed="rId2"/>
          <a:stretch/>
        </p:blipFill>
        <p:spPr>
          <a:xfrm>
            <a:off x="1316160" y="1905120"/>
            <a:ext cx="254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4T12:17:03Z</dcterms:created>
  <dc:creator>Middle School</dc:creator>
  <dc:description/>
  <dc:language>en-US</dc:language>
  <cp:lastModifiedBy>Kristina E. Nied User</cp:lastModifiedBy>
  <cp:lastPrinted>2008-06-24T14:04:46Z</cp:lastPrinted>
  <dcterms:modified xsi:type="dcterms:W3CDTF">2009-07-31T01:44:56Z</dcterms:modified>
  <cp:revision>10</cp:revision>
  <dc:subject/>
  <dc:title>In Their Shoes</dc:title>
</cp:coreProperties>
</file>